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5F3-3DC4-4886-9628-DB5DBF1A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F743-5F51-416B-ADBD-CE428370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8107-E73F-4F7F-9D0C-84F1FEAC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5A72-116C-443E-8DB9-19804A02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A154-EEA0-4A2F-B738-C3EF90A8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4CD-3016-4C22-A068-CA72C5D6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F394-698D-4446-B1F3-BA7CBEE9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96E5-292F-4C35-A7F7-537CFFCC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59AE-82E5-4237-B859-72E114ED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85D-8250-43DF-AB22-CD23F1E3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193B-0DDC-438D-B098-653D5E31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91D-F799-4B6A-85AB-6CA3E785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17C89F-98DB-4B56-B2B8-5D7D0C5B4F6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"/>
            <a:ext cx="8229240" cy="12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Q Emissions Data Considerations and Needs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reg Frost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AA, University of Colo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720" y="1334880"/>
            <a:ext cx="8908560" cy="498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key kinds of AQ data on chemical species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miss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mbi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miss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How much is put in to the atmosp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mbient leve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How much of that species is in the atmosp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h are measured and mode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ience/Resear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Data is critical for understanding atmosp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sured/modeled emissions:  what goes in atmosphere, changes over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sured/modeled ambient levels:  state of atmosphere, changes over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 driving variables (boundary and initial condi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 evaluation (comparisons to observa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y/Regulation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critical for policy and regulatory deci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the current state of the atmosp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ntifying impacts of changing emis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ission inventories are fundamentally regulatory and policy instru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issions are the lever we can cont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ocus on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emissions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in my (random) though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"/>
            <a:ext cx="82292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ssions Consid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8320" y="610200"/>
            <a:ext cx="8846640" cy="58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ach of these is species dependent, &amp; differ for AQ and climate data s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mary: Emitted from point or distributed sources, at surface or elev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ary: Produced in atmosphere through chemical re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thropogenic, Biogenic, or Mix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tors/processes: e.g. mobile, industry, energy production, agriculture, fore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at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obal, regional, lo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int &amp; gridded vs area-wide (county, state, nation, world reg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mp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(hourly –&gt; multi-decad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velopment 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tom-up invento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p-down estim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onal/national/international eff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ientific re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"/>
            <a:ext cx="82292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ssions Issues and Needs (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880" y="610200"/>
            <a:ext cx="8561880" cy="58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xic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s of da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 and speciation of pollut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onal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tor and process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at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mp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ltiple val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 develop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 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 pollutant/sector/region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ion and consistency between data s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l changes over time vs methodology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ces between different provi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Q and climate follow different development paths…hinders understanding of climate-AQ inter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"/>
            <a:ext cx="82292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ssions Issues and Needs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0880" y="610200"/>
            <a:ext cx="8561880" cy="58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entory development literature difficult to 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entory development &amp; analysis often not in peer-reviewed litera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essi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ces between regions, provi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rge complex data sets, specific form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blic vs proprietary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 needs and cultures of regulatory and scientific commun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-way feedbacks between regulators and scientists diffic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/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risons of inventories to observations/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ability of 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rt assess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imp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  <Words>410</Words>
  <Paragraphs>69</Paragraphs>
  <Company>NOAA ESRL CS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5:48:04Z</dcterms:created>
  <dc:creator>Gregory Frost</dc:creator>
  <dc:description/>
  <dc:language>en-US</dc:language>
  <cp:lastModifiedBy>Gregory Frost</cp:lastModifiedBy>
  <dcterms:modified xsi:type="dcterms:W3CDTF">2011-07-14T13:42:54Z</dcterms:modified>
  <cp:revision>1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</vt:r8>
  </property>
</Properties>
</file>